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EAE3-B9D2-42BE-B014-AA727F210545}"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5665-3F7C-4583-BF82-F17DCA58DBC9}"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A996B-E3E2-4D30-BED0-1F7049F04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B72D-128E-4DD4-ADB2-D8F093B0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BCDA4-259D-467B-9BB1-DDFC0B284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115D0-8492-4D84-B527-FD375AA0A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68F1-915A-4AA4-B147-94909DF53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58FE-7D9B-474A-9089-F291EF85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AAA9-B1DC-432A-B36D-FCABEB47B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236AB-B308-4514-B3E6-F4E87188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EAFE-01C7-4432-BAE3-B0DC82EF4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B6EF0-0CFD-47DF-B16E-CBA65F976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48B6-5FA7-4062-9DAB-A81E8C7A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AF61-43D0-445B-8578-5EBE9CA2F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460C-7708-40B5-B385-B27D9D896890}"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hyperlink" Target="http://proquest.umi.com/pqdlink?did=750777791&amp;sid=1&amp;Fmt=6&amp;clientId=23398&amp;RQT=309&amp;VName=PQD" TargetMode="External"/><Relationship Id="rId3" Type="http://schemas.openxmlformats.org/officeDocument/2006/relationships/hyperlink" Target="http://proquest.umi.com/pqdlink?did=750777791&amp;sid=1&amp;Fmt=6&amp;clientId=23398&amp;RQT=309&amp;VName=PQD"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1052640"/>
            <a:ext cx="2592360" cy="5472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419640" y="907920"/>
            <a:ext cx="2665080" cy="5643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372360" y="907920"/>
            <a:ext cx="2604960" cy="47959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25360"/>
            <a:ext cx="2521080" cy="39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on yksi motivaation muoto. Motivaation voidaan määritellä tarkoittavan seuraavia asioi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iä voimia,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taa, joka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toa eli niitä tekijöitä yksilössä ja ympäristössä, jotka joko vahvistavat</a:t>
            </a:r>
            <a:br>
              <a:rPr sz="500"/>
            </a:br>
            <a:r>
              <a:rPr b="0" lang="fi-FI" sz="500" spc="-1" strike="noStrike">
                <a:solidFill>
                  <a:srgbClr val="000000"/>
                </a:solidFill>
                <a:latin typeface="Calibri"/>
              </a:rPr>
              <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Näihin motivaation elementteihin vaikuttavat voimakkaasti yksilölliset tiedolliset taustat; taidot ja tiedot sekä emootiot, jotka ohjaavat yksilön kiinnostusta sekä toiminnan orientaatiota eri tilanteissa. Motivaatio voi olla taustaltaan sisäsyntyistä, jolloin toiminta on tekijälleen itsessään palkitsevaa tai ulkosyntyistä, jolloin toimintaa tehdään sen seurauksina odotettavien palkkioiden vuoksi. </a:t>
            </a:r>
            <a:br>
              <a:rPr sz="500"/>
            </a:br>
            <a:br>
              <a:rPr sz="500"/>
            </a:br>
            <a:r>
              <a:rPr b="0" lang="fi-FI" sz="500" spc="-1" strike="noStrike">
                <a:solidFill>
                  <a:srgbClr val="000000"/>
                </a:solidFill>
                <a:latin typeface="Calibri"/>
              </a:rPr>
              <a:t>Ihmiset motivoituvat elämänsä eri vaiheissa erilaisista asioista ja myös työmotivaation sisältö ja intensiteetti voi muuttua työuran eri vaiheissa. Työmotivaatiossa voidaan nähdä olevan kysymyksessä laajoista  motivaatioverkostoista, jotka sisältävät ulkoiset eli helposti tunnistettavia ja sisäisiä eli osittain tiedostamattomia ja tunneperäisiä elementtejä. Rahallinen palkitseminen on vain yksi työkalu asiantuntijan motivaation tukemiseen. </a:t>
            </a:r>
            <a:br>
              <a:rPr sz="500"/>
            </a:br>
            <a:br>
              <a:rPr sz="500"/>
            </a:br>
            <a:r>
              <a:rPr b="0" lang="fi-FI" sz="500" spc="-1" strike="noStrike">
                <a:solidFill>
                  <a:srgbClr val="000000"/>
                </a:solidFill>
                <a:latin typeface="Calibri"/>
              </a:rPr>
              <a:t>Asiantuntijaorganisaatioissa esimiehen ja projektipäällikön keskeisenä tehtävänä on saada sovittuja tuloksia aikaan yhdessä tiiminsä kanssa, tiimin jäseniä kannustaen. Oman tehtävänsä vuoksi esimiehen on hyvä oppia tunnistamaan ne asiat, jotka vaikuttavat asiantuntijan motivaatioon. Valmentava esimies osaa huomioida asiantuntijan motivaatiotilan hänen kykyjensä ohella ja johtaa asiantuntijaa tehtävässä tämän ymmärryksen mukaisesti (Kuva 1).</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07920"/>
            <a:ext cx="2087640" cy="1542960"/>
            <a:chOff x="3564000" y="907920"/>
            <a:chExt cx="2087640" cy="1542960"/>
          </a:xfrm>
        </p:grpSpPr>
        <p:grpSp>
          <p:nvGrpSpPr>
            <p:cNvPr id="55" name="Ryhmä 12"/>
            <p:cNvGrpSpPr/>
            <p:nvPr/>
          </p:nvGrpSpPr>
          <p:grpSpPr>
            <a:xfrm>
              <a:off x="3913560" y="1105560"/>
              <a:ext cx="1325520" cy="1111320"/>
              <a:chOff x="3913560" y="1105560"/>
              <a:chExt cx="1325520" cy="1111320"/>
            </a:xfrm>
          </p:grpSpPr>
          <p:sp>
            <p:nvSpPr>
              <p:cNvPr id="56" name="Ellipsi 13"/>
              <p:cNvSpPr/>
              <p:nvPr/>
            </p:nvSpPr>
            <p:spPr>
              <a:xfrm>
                <a:off x="3913560" y="1105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17072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56348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0500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Kuva 2</a:t>
              </a:r>
              <a:r>
                <a:rPr b="0" lang="en-US"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0792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372360" y="5661000"/>
            <a:ext cx="259236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72360" y="580536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a:t>
            </a:r>
            <a:r>
              <a:rPr b="0" lang="fi-FI" sz="300" spc="-1" strike="noStrike" u="sng">
                <a:solidFill>
                  <a:srgbClr val="0000ff"/>
                </a:solidFill>
                <a:uFillTx/>
                <a:latin typeface="Calibri"/>
                <a:hlinkClick r:id="rId2"/>
              </a:rPr>
              <a:t>proquest.umi.com</a:t>
            </a:r>
            <a:r>
              <a:rPr b="0" lang="fi-FI" sz="300" spc="-1" strike="noStrike" u="sng">
                <a:solidFill>
                  <a:srgbClr val="0000ff"/>
                </a:solidFill>
                <a:uFillTx/>
                <a:latin typeface="Calibri"/>
                <a:hlinkClick r:id="rId3"/>
              </a:rPr>
              <a:t>/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165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443640" y="530064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Kuva 3. </a:t>
            </a:r>
            <a:r>
              <a:rPr b="0" lang="en-US"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492360" y="2708280"/>
            <a:ext cx="25196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muun muassa työntekijöiden sekä organisaation oppiminen ja osaamisen kasvu. Tiedollinen ja taidollinen asiantuntijuus ei yksinään lisää organisaation menestystä. Menestykseen tarvitaan lisäksi työstään motivoituneita henkilöitä, joilla on työssään riittävästi toiminta- ja päätöksentekovapautta. Tällainen myönteinen, työntekijöille vapautta ja vastuuta antava ilmapiiri edistää työntekijöiden motivaatiota ja aloitteellisuutta. Itsenäisen työn vastapainoksi työntekijät tarvitsevat nopeaa ja oikea-aikaista palautetta tekemästään työstä ja sen tuloksista oli työn tuotoksena sitten tuote tai palvelu. Vain tällaisen palautteen avulla työntekijät pystyvät parantamaan suorituksiaan ja eliminoimaan virheitään, mikä lisää työn tuottavuut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utkimusten mukaan toimi pitkäkestoisena motivaation lähteenä, mutta se voi olla tyytymättömyyden syy. Palkan vaikutus työtyytyväisyydelle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pan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419640" y="2492280"/>
            <a:ext cx="2665080" cy="1447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7" name="Suorakulmio 102"/>
          <p:cNvSpPr/>
          <p:nvPr/>
        </p:nvSpPr>
        <p:spPr>
          <a:xfrm>
            <a:off x="687564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03"/>
          <p:cNvSpPr/>
          <p:nvPr/>
        </p:nvSpPr>
        <p:spPr>
          <a:xfrm>
            <a:off x="6877080" y="5013360"/>
            <a:ext cx="135720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69" name="Suorakulmio 104"/>
          <p:cNvSpPr/>
          <p:nvPr/>
        </p:nvSpPr>
        <p:spPr>
          <a:xfrm>
            <a:off x="723276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uorakulmio 105"/>
          <p:cNvSpPr/>
          <p:nvPr/>
        </p:nvSpPr>
        <p:spPr>
          <a:xfrm>
            <a:off x="758988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6"/>
          <p:cNvSpPr/>
          <p:nvPr/>
        </p:nvSpPr>
        <p:spPr>
          <a:xfrm>
            <a:off x="794700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kstikehys 29"/>
          <p:cNvSpPr/>
          <p:nvPr/>
        </p:nvSpPr>
        <p:spPr>
          <a:xfrm>
            <a:off x="6804000" y="4432320"/>
            <a:ext cx="42876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val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elegoi</a:t>
            </a:r>
            <a:endParaRPr b="0" lang="en-US" sz="500" spc="-1" strike="noStrike">
              <a:solidFill>
                <a:srgbClr val="000000"/>
              </a:solidFill>
              <a:latin typeface="Arial"/>
            </a:endParaRPr>
          </a:p>
        </p:txBody>
      </p:sp>
      <p:sp>
        <p:nvSpPr>
          <p:cNvPr id="73" name="Tekstikehys 30"/>
          <p:cNvSpPr/>
          <p:nvPr/>
        </p:nvSpPr>
        <p:spPr>
          <a:xfrm>
            <a:off x="7161120" y="4432320"/>
            <a:ext cx="42876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pidä yhteisölli-syyttä</a:t>
            </a:r>
            <a:endParaRPr b="0" lang="en-US" sz="500" spc="-1" strike="noStrike">
              <a:solidFill>
                <a:srgbClr val="000000"/>
              </a:solidFill>
              <a:latin typeface="Arial"/>
            </a:endParaRPr>
          </a:p>
        </p:txBody>
      </p:sp>
      <p:sp>
        <p:nvSpPr>
          <p:cNvPr id="74" name="Tekstikehys 31"/>
          <p:cNvSpPr/>
          <p:nvPr/>
        </p:nvSpPr>
        <p:spPr>
          <a:xfrm>
            <a:off x="7518240" y="4432320"/>
            <a:ext cx="42876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Luo haasteita</a:t>
            </a:r>
            <a:endParaRPr b="0" lang="en-US" sz="500" spc="-1" strike="noStrike">
              <a:solidFill>
                <a:srgbClr val="000000"/>
              </a:solidFill>
              <a:latin typeface="Arial"/>
            </a:endParaRPr>
          </a:p>
        </p:txBody>
      </p:sp>
      <p:sp>
        <p:nvSpPr>
          <p:cNvPr id="75" name="Tekstikehys 32"/>
          <p:cNvSpPr/>
          <p:nvPr/>
        </p:nvSpPr>
        <p:spPr>
          <a:xfrm>
            <a:off x="7875720" y="443232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6" name="Tasakylkinen kolmio 111"/>
          <p:cNvSpPr/>
          <p:nvPr/>
        </p:nvSpPr>
        <p:spPr>
          <a:xfrm>
            <a:off x="6875640" y="3862440"/>
            <a:ext cx="135720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7" name="Suorakulmio 112"/>
          <p:cNvSpPr/>
          <p:nvPr/>
        </p:nvSpPr>
        <p:spPr>
          <a:xfrm>
            <a:off x="6875640" y="4076640"/>
            <a:ext cx="135720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siantuntijan motivaation tukeminen</a:t>
            </a:r>
            <a:endParaRPr b="0" lang="en-US" sz="800" spc="-1" strike="noStrike">
              <a:solidFill>
                <a:srgbClr val="000000"/>
              </a:solidFill>
              <a:latin typeface="Arial"/>
            </a:endParaRPr>
          </a:p>
        </p:txBody>
      </p:sp>
      <p:sp>
        <p:nvSpPr>
          <p:cNvPr id="78" name="Suorakulmio 75"/>
          <p:cNvSpPr/>
          <p:nvPr/>
        </p:nvSpPr>
        <p:spPr>
          <a:xfrm>
            <a:off x="637236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79" name="Ryhmä 82"/>
          <p:cNvGrpSpPr/>
          <p:nvPr/>
        </p:nvGrpSpPr>
        <p:grpSpPr>
          <a:xfrm>
            <a:off x="682560" y="4983840"/>
            <a:ext cx="1801800" cy="1146960"/>
            <a:chOff x="682560" y="4983840"/>
            <a:chExt cx="1801800" cy="1146960"/>
          </a:xfrm>
        </p:grpSpPr>
        <p:grpSp>
          <p:nvGrpSpPr>
            <p:cNvPr id="80" name="Ryhmä 61"/>
            <p:cNvGrpSpPr/>
            <p:nvPr/>
          </p:nvGrpSpPr>
          <p:grpSpPr>
            <a:xfrm>
              <a:off x="682560" y="4983840"/>
              <a:ext cx="1801800" cy="1146960"/>
              <a:chOff x="682560" y="4983840"/>
              <a:chExt cx="1801800" cy="1146960"/>
            </a:xfrm>
          </p:grpSpPr>
          <p:sp>
            <p:nvSpPr>
              <p:cNvPr id="81" name="Pyöristetty suorakulmio 62"/>
              <p:cNvSpPr/>
              <p:nvPr/>
            </p:nvSpPr>
            <p:spPr>
              <a:xfrm>
                <a:off x="89208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Tue</a:t>
                </a:r>
                <a:endParaRPr b="0" lang="en-US" sz="800" spc="-1" strike="noStrike">
                  <a:solidFill>
                    <a:srgbClr val="000000"/>
                  </a:solidFill>
                  <a:latin typeface="Arial"/>
                </a:endParaRPr>
              </a:p>
            </p:txBody>
          </p:sp>
          <p:sp>
            <p:nvSpPr>
              <p:cNvPr id="82" name="Pyöristetty suorakulmio 63"/>
              <p:cNvSpPr/>
              <p:nvPr/>
            </p:nvSpPr>
            <p:spPr>
              <a:xfrm>
                <a:off x="172224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Delegoi</a:t>
                </a:r>
                <a:endParaRPr b="0" lang="en-US" sz="800" spc="-1" strike="noStrike">
                  <a:solidFill>
                    <a:srgbClr val="000000"/>
                  </a:solidFill>
                  <a:latin typeface="Arial"/>
                </a:endParaRPr>
              </a:p>
            </p:txBody>
          </p:sp>
          <p:sp>
            <p:nvSpPr>
              <p:cNvPr id="83" name="Pyöristetty suorakulmio 64"/>
              <p:cNvSpPr/>
              <p:nvPr/>
            </p:nvSpPr>
            <p:spPr>
              <a:xfrm>
                <a:off x="89208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Ohjaa</a:t>
                </a:r>
                <a:endParaRPr b="0" lang="en-US" sz="800" spc="-1" strike="noStrike">
                  <a:solidFill>
                    <a:srgbClr val="000000"/>
                  </a:solidFill>
                  <a:latin typeface="Arial"/>
                </a:endParaRPr>
              </a:p>
            </p:txBody>
          </p:sp>
          <p:sp>
            <p:nvSpPr>
              <p:cNvPr id="84" name="Pyöristetty suorakulmio 65"/>
              <p:cNvSpPr/>
              <p:nvPr/>
            </p:nvSpPr>
            <p:spPr>
              <a:xfrm>
                <a:off x="172224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nnosta</a:t>
                </a:r>
                <a:endParaRPr b="0" lang="en-US" sz="800" spc="-1" strike="noStrike">
                  <a:solidFill>
                    <a:srgbClr val="000000"/>
                  </a:solidFill>
                  <a:latin typeface="Arial"/>
                </a:endParaRPr>
              </a:p>
            </p:txBody>
          </p:sp>
          <p:sp>
            <p:nvSpPr>
              <p:cNvPr id="85" name="Tekstikehys 66"/>
              <p:cNvSpPr/>
              <p:nvPr/>
            </p:nvSpPr>
            <p:spPr>
              <a:xfrm rot="16200000">
                <a:off x="318960" y="53470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Motivaatio   +</a:t>
                </a:r>
                <a:endParaRPr b="0" lang="en-US" sz="800" spc="-1" strike="noStrike">
                  <a:solidFill>
                    <a:srgbClr val="000000"/>
                  </a:solidFill>
                  <a:latin typeface="Arial"/>
                </a:endParaRPr>
              </a:p>
            </p:txBody>
          </p:sp>
          <p:sp>
            <p:nvSpPr>
              <p:cNvPr id="86" name="Tekstikehys 67"/>
              <p:cNvSpPr/>
              <p:nvPr/>
            </p:nvSpPr>
            <p:spPr>
              <a:xfrm>
                <a:off x="1168200" y="5915160"/>
                <a:ext cx="110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Kyvyt    +</a:t>
                </a:r>
                <a:endParaRPr b="0" lang="en-US" sz="800" spc="-1" strike="noStrike">
                  <a:solidFill>
                    <a:srgbClr val="000000"/>
                  </a:solidFill>
                  <a:latin typeface="Arial"/>
                </a:endParaRPr>
              </a:p>
            </p:txBody>
          </p:sp>
        </p:grpSp>
        <p:sp>
          <p:nvSpPr>
            <p:cNvPr id="87" name="Kaarinuoli alas 68"/>
            <p:cNvSpPr/>
            <p:nvPr/>
          </p:nvSpPr>
          <p:spPr>
            <a:xfrm rot="19941600">
              <a:off x="1169640" y="528120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Kaarinuoli alas 69"/>
            <p:cNvSpPr/>
            <p:nvPr/>
          </p:nvSpPr>
          <p:spPr>
            <a:xfrm flipV="1" rot="19942200">
              <a:off x="1369800" y="552060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Picture 73" descr="EB"/>
          <p:cNvPicPr/>
          <p:nvPr/>
        </p:nvPicPr>
        <p:blipFill>
          <a:blip r:embed="rId4"/>
          <a:stretch/>
        </p:blipFill>
        <p:spPr>
          <a:xfrm>
            <a:off x="8459640" y="254160"/>
            <a:ext cx="339840" cy="322200"/>
          </a:xfrm>
          <a:prstGeom prst="rect">
            <a:avLst/>
          </a:prstGeom>
          <a:ln w="0">
            <a:noFill/>
          </a:ln>
        </p:spPr>
      </p:pic>
      <p:sp>
        <p:nvSpPr>
          <p:cNvPr id="90"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8" descr=""/>
          <p:cNvPicPr/>
          <p:nvPr/>
        </p:nvPicPr>
        <p:blipFill>
          <a:blip r:embed="rId5"/>
          <a:stretch/>
        </p:blipFill>
        <p:spPr>
          <a:xfrm>
            <a:off x="7740720" y="189000"/>
            <a:ext cx="538200" cy="588960"/>
          </a:xfrm>
          <a:prstGeom prst="rect">
            <a:avLst/>
          </a:prstGeom>
          <a:ln w="0">
            <a:noFill/>
          </a:ln>
        </p:spPr>
      </p:pic>
      <p:pic>
        <p:nvPicPr>
          <p:cNvPr id="96" name="Picture 79" descr=""/>
          <p:cNvPicPr/>
          <p:nvPr/>
        </p:nvPicPr>
        <p:blipFill>
          <a:blip r:embed="rId6"/>
          <a:stretch/>
        </p:blipFill>
        <p:spPr>
          <a:xfrm>
            <a:off x="179280" y="212760"/>
            <a:ext cx="1506600" cy="738000"/>
          </a:xfrm>
          <a:prstGeom prst="rect">
            <a:avLst/>
          </a:prstGeom>
          <a:ln w="0">
            <a:noFill/>
          </a:ln>
        </p:spPr>
      </p:pic>
      <p:sp>
        <p:nvSpPr>
          <p:cNvPr id="97" name="Tekstikehys 81"/>
          <p:cNvSpPr/>
          <p:nvPr/>
        </p:nvSpPr>
        <p:spPr>
          <a:xfrm>
            <a:off x="6372360" y="1125360"/>
            <a:ext cx="2447640" cy="28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s omasta työstä saatavaan säännölliseen palautteeseen sekä omassa työyhteisössä koetut yhteisöllisyyden tunteet ovat asiantuntijan sisäisen motivaation tärkeitä tukielementtejä. Yhteisöllisyyden ja ryhmään kuulumisen tunnetta voidaan vahvistaa säännöllisillä esimiehen tai projektipäällikön ja asiantuntijoiden yhteyksillä, joissa on mahdollista saada ja antaa palautetta, kertoa kuulumiset ja päivittää työtilann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irallisten tiimipalavereiden lisäksi on hyvä tarjota työntekijöille esimerkiksi kerran viikossa vapaamuotoinen mahdollisuus kohdata fyysisesti kaukanakin olevat esimies, projektipäällikkö tai kollegat. Esimerkiksi LiveMeeting-työkalu tarjoaa tähän sähköisen tutun ja helpon ympäristön kohdeorganisaation asiantuntijoille. Säännöllisillä virtuaalisillakin tapaamisilla voidaan tarjota ympäristö mm. palautteelle, huomioimiselle, vertaistuelle, hiljaisen tiedon välittämiselle ja ideoiden synnyttämiselle.</a:t>
            </a:r>
            <a:br>
              <a:rPr sz="500"/>
            </a:br>
            <a:br>
              <a:rPr sz="500"/>
            </a:br>
            <a:r>
              <a:rPr b="1" lang="fi-FI" sz="500" spc="-1" strike="noStrike">
                <a:solidFill>
                  <a:srgbClr val="000000"/>
                </a:solidFill>
                <a:latin typeface="Calibri"/>
              </a:rPr>
              <a:t>Ohjeet esimiehelle ja projektipäällikölle asiantuntijan motivaation tukemiseen:</a:t>
            </a:r>
            <a:r>
              <a:rPr b="0" lang="fi-FI" sz="500" spc="-1" strike="noStrike">
                <a:solidFill>
                  <a:srgbClr val="000000"/>
                </a:solidFill>
                <a:latin typeface="Calibri"/>
              </a:rPr>
              <a:t> </a:t>
            </a:r>
            <a:br>
              <a:rPr sz="500"/>
            </a:br>
            <a:r>
              <a:rPr b="0" lang="fi-FI" sz="500" spc="-1" strike="noStrike">
                <a:solidFill>
                  <a:srgbClr val="000000"/>
                </a:solidFill>
                <a:latin typeface="Calibri"/>
              </a:rPr>
              <a:t>(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Tunne yksilölliset motivaatiotekijät.</a:t>
            </a:r>
            <a:r>
              <a:rPr b="0" lang="fi-FI" sz="500" spc="-1" strike="noStrike">
                <a:solidFill>
                  <a:srgbClr val="000000"/>
                </a:solidFill>
                <a:latin typeface="Calibri"/>
              </a:rPr>
              <a:t> Esimiehen/projektipäällikön on hyvä tuntea ne tekijät, joista motivaatio syntyy ja pyrkiä tunnistamaan ja ymmärtämään näitä tekijöitä tiiminsä jäsenten toiminnassa. Esimies/projektipäällikkö tukee asiantuntijan motivaatiota parhaiten hoitamalla oman roolinsa motivoituneesti ja huomioimalla erityisesti seuraavat  asiat:</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projektipäällikön tulee luoda tilanteita, joissa asiantuntijat pääsevät vaikuttamaan asioihin, tekemään päätöksiä ja kantamaan vastuuta. Välitavoitteet mahdollistavat oikea-aikaisen palautteen antamis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projektipäällikö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Luo haasteita</a:t>
            </a:r>
            <a:br>
              <a:rPr sz="500"/>
            </a:br>
            <a:r>
              <a:rPr b="0" lang="fi-FI" sz="500" spc="-1" strike="noStrike">
                <a:solidFill>
                  <a:srgbClr val="000000"/>
                </a:solidFill>
                <a:latin typeface="Calibri"/>
              </a:rPr>
              <a:t>Esimiehen/projektipäällikö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projektipäällikön pitää olla kiinnostunut asiantuntijoiden tekemisistä ja antaa palautetta säännöllisesti. Kukaan ei elä kiitoksilla, mutta niitä ei tule säästellä. Asiantuntija kaipaa myös valmennusta ja koulutusta. (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varmar</cp:lastModifiedBy>
  <dcterms:modified xsi:type="dcterms:W3CDTF">2010-08-29T22:40:16Z</dcterms:modified>
  <cp:revision>75</cp:revision>
  <dc:subject/>
  <dc:title>Dia 1</dc:title>
</cp:coreProperties>
</file>